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9BB-C027-4548-909D-B38EDD9C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4EF-5E0F-4574-9227-EEEC9366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4F4-69F7-41BB-A691-FD3DEAE2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D39-2A58-4CE7-8360-1DAB6C01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CF65E-0AA1-4A3C-82E3-B9D5141D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9783D-83BE-4C13-B560-8749A833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99F58-CA59-44C6-86C7-D6547FDE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2BF9A-499F-4FAB-A5DD-5D9AF7F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7714A-7005-4FE9-AAB1-FCF6C4BD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543D3-6017-4C3C-8002-D57815F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930F1-4F4F-40F3-88D8-9A554A3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03A-98A1-49A9-AA26-1366C5F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2AC6D-3A1A-4660-8D1B-11B7B97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182E-A999-4723-ABE4-D0752F29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5585A-873B-4924-9E45-107F3479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18C9A-4377-4FA8-98B6-D7138756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55DB4-04FA-45FA-AB09-6E8D1982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BCB-8877-4C66-BAC4-F822DAFA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D71-6734-431E-A66E-F4F545C8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62D-25A3-40D3-8C05-262FA84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923-00F0-46AE-AC13-753CFF64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707-7461-483C-B7F5-97C272DD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78A-6111-4922-A701-49CD575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879-D067-4FAB-8C45-3F1D5A38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A8F-E56B-4FFE-926D-F4444887D5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B893-A99D-41B6-B32A-F327331B9A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" name="Freeform 6"/>
              <p:cNvSpPr/>
              <p:nvPr/>
            </p:nvSpPr>
            <p:spPr>
              <a:xfrm>
                <a:off x="2743200" y="4197600"/>
                <a:ext cx="4575240" cy="2652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7"/>
              <p:cNvSpPr/>
              <p:nvPr/>
            </p:nvSpPr>
            <p:spPr>
              <a:xfrm>
                <a:off x="6620040" y="4240440"/>
                <a:ext cx="1998360" cy="128736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7145280" y="3678480"/>
                <a:ext cx="1981080" cy="855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cc"/>
                </a:solidFill>
                <a:latin typeface="Tahoma"/>
              </a:rPr>
              <a:t>KRVNI SUDOVI </a:t>
            </a:r>
            <a:br>
              <a:rPr sz="4800"/>
            </a:br>
            <a:r>
              <a:rPr b="1" lang="sr-Latn-CS" sz="4800" spc="-1" strike="noStrike">
                <a:solidFill>
                  <a:srgbClr val="ffffcc"/>
                </a:solidFill>
                <a:latin typeface="Tahoma"/>
              </a:rPr>
              <a:t>GLAVE I VRAT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A. carotis intern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4200" y="714240"/>
            <a:ext cx="450072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Bočne gr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za bubnu dupl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za trigeminalni gangl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za hipofiz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za delove tvrde moždane op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ophtal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centralis retin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lacrim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a. ciliares posteriores bre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a. ciliares posteriores long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a. ciliares anteri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supraorbit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ethmoidalis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ethmoidalis an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a. palpebrales med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supratrochlear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a gran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dorsalis na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7960" y="713880"/>
            <a:ext cx="428148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Završne gr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1)   a. Cerebri an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2)   a. Cerebri m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3)   a. Communicans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4)   a. Choroidea an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rcRect l="7308" t="0" r="40269" b="37500"/>
          <a:stretch/>
        </p:blipFill>
        <p:spPr>
          <a:xfrm>
            <a:off x="826920" y="20520"/>
            <a:ext cx="76471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ahoma"/>
              </a:rPr>
              <a:t>A. SUBCLAVI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Bočne gr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Vertebr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Thoracica inter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Truncus Costocervic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Truncus Thyrocervic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Transversa cervic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Završna gra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axillar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A . Vertebr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Bočne gr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a) u vrat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mišićne gr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moždinske gr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b) u lobanjskoj duplj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spinalis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spinalis an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inferior posterior cerebel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A. Vertebr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Završna gra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basilar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A. Basilar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Bočne gr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inferior anterior cerebel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labyrinth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a. pont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 a. superior cerebel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Završne gr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-a. cerebri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301680"/>
            <a:ext cx="77724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886e0"/>
                </a:solidFill>
                <a:latin typeface="Garamond"/>
              </a:rPr>
              <a:t>Sinusi tvrde moždan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4258" t="0" r="66648" b="55405"/>
          <a:stretch/>
        </p:blipFill>
        <p:spPr>
          <a:xfrm>
            <a:off x="1214280" y="1000080"/>
            <a:ext cx="64296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rcRect l="6186" t="0" r="50061" b="40058"/>
          <a:stretch/>
        </p:blipFill>
        <p:spPr>
          <a:xfrm>
            <a:off x="755640" y="260280"/>
            <a:ext cx="74851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6186" t="-1786" r="50061" b="38522"/>
          <a:stretch/>
        </p:blipFill>
        <p:spPr>
          <a:xfrm>
            <a:off x="826920" y="189000"/>
            <a:ext cx="7485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186" t="-383" r="50061" b="40445"/>
          <a:stretch/>
        </p:blipFill>
        <p:spPr>
          <a:xfrm>
            <a:off x="684360" y="260280"/>
            <a:ext cx="74847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6186" t="0" r="50061" b="40058"/>
          <a:stretch/>
        </p:blipFill>
        <p:spPr>
          <a:xfrm>
            <a:off x="826920" y="189000"/>
            <a:ext cx="7485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6186" t="-1786" r="50061" b="38522"/>
          <a:stretch/>
        </p:blipFill>
        <p:spPr>
          <a:xfrm>
            <a:off x="755640" y="0"/>
            <a:ext cx="727236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6186" t="-383" r="50061" b="40445"/>
          <a:stretch/>
        </p:blipFill>
        <p:spPr>
          <a:xfrm>
            <a:off x="826920" y="189000"/>
            <a:ext cx="75614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arcus aorte 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Garamond"/>
              </a:rPr>
              <a:t>V. Jugularis Intern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4259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a886e0"/>
                </a:solidFill>
                <a:latin typeface="Garamond"/>
              </a:rPr>
              <a:t>Наставља</a:t>
            </a:r>
            <a:r>
              <a:rPr b="1" lang="en-US" sz="1800" spc="-1" strike="noStrike">
                <a:solidFill>
                  <a:srgbClr val="a886e0"/>
                </a:solidFill>
                <a:latin typeface="Garamond"/>
              </a:rPr>
              <a:t> sinus sygmoid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a886e0"/>
                </a:solidFill>
                <a:latin typeface="Garamond"/>
              </a:rPr>
              <a:t>Приток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886e0"/>
                </a:solidFill>
                <a:uFillTx/>
                <a:latin typeface="Garamond"/>
              </a:rPr>
              <a:t>Bulbus sup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aqueductus cochlea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sinus petrosus unf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enski splet hipoglosnog kana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enski splet karotidnog kana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a886e0"/>
                </a:solidFill>
                <a:uFillTx/>
                <a:latin typeface="Garamond"/>
              </a:rPr>
              <a:t>Стабл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v. pharyngea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lingual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facial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retromandibularis- </a:t>
            </a:r>
            <a:r>
              <a:rPr b="0" lang="sr-CS" sz="1800" spc="-1" strike="noStrike">
                <a:solidFill>
                  <a:srgbClr val="a886e0"/>
                </a:solidFill>
                <a:latin typeface="Garamond"/>
              </a:rPr>
              <a:t>варијабил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thyroidea sup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thyroideae media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jugularis externa- </a:t>
            </a:r>
            <a:r>
              <a:rPr b="0" lang="sr-CS" sz="1800" spc="-1" strike="noStrike">
                <a:solidFill>
                  <a:srgbClr val="a886e0"/>
                </a:solidFill>
                <a:latin typeface="Garamond"/>
              </a:rPr>
              <a:t>варијабил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jugularis anterior- </a:t>
            </a:r>
            <a:r>
              <a:rPr b="0" lang="sr-CS" sz="1800" spc="-1" strike="noStrike">
                <a:solidFill>
                  <a:srgbClr val="a886e0"/>
                </a:solidFill>
                <a:latin typeface="Garamond"/>
              </a:rPr>
              <a:t>варијабил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v. vertebralis- </a:t>
            </a:r>
            <a:r>
              <a:rPr b="0" lang="sr-CS" sz="1800" spc="-1" strike="noStrike">
                <a:solidFill>
                  <a:srgbClr val="a886e0"/>
                </a:solidFill>
                <a:latin typeface="Garamond"/>
              </a:rPr>
              <a:t>варијабил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886e0"/>
                </a:solidFill>
                <a:uFillTx/>
                <a:latin typeface="Garamond"/>
              </a:rPr>
              <a:t>Bulbus inf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Ductus thoracic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Garamond"/>
              </a:rPr>
              <a:t>Ductus limphaticus dex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a886e0"/>
                </a:solidFill>
                <a:latin typeface="Garamond"/>
              </a:rPr>
              <a:t>Улива</a:t>
            </a:r>
            <a:r>
              <a:rPr b="1" lang="en-US" sz="18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sr-CS" sz="1800" spc="-1" strike="noStrike">
                <a:solidFill>
                  <a:srgbClr val="a886e0"/>
                </a:solidFill>
                <a:latin typeface="Garamond"/>
              </a:rPr>
              <a:t>се</a:t>
            </a:r>
            <a:r>
              <a:rPr b="1" lang="en-US" sz="18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sr-CS" sz="1800" spc="-1" strike="noStrike">
                <a:solidFill>
                  <a:srgbClr val="a886e0"/>
                </a:solidFill>
                <a:latin typeface="Garamond"/>
              </a:rPr>
              <a:t>у</a:t>
            </a:r>
            <a:r>
              <a:rPr b="1" lang="en-US" sz="18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sr-CS" sz="1800" spc="-1" strike="noStrike">
                <a:solidFill>
                  <a:srgbClr val="a886e0"/>
                </a:solidFill>
                <a:latin typeface="Garamond"/>
              </a:rPr>
              <a:t>венски</a:t>
            </a:r>
            <a:r>
              <a:rPr b="1" lang="en-US" sz="18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sr-CS" sz="1800" spc="-1" strike="noStrike">
                <a:solidFill>
                  <a:srgbClr val="a886e0"/>
                </a:solidFill>
                <a:latin typeface="Garamond"/>
              </a:rPr>
              <a:t>уга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083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6186" t="1535" r="50061" b="38522"/>
          <a:stretch/>
        </p:blipFill>
        <p:spPr>
          <a:xfrm>
            <a:off x="755640" y="260280"/>
            <a:ext cx="748836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886e0"/>
                </a:solidFill>
                <a:latin typeface="Garamond"/>
              </a:rPr>
              <a:t>Венски</a:t>
            </a: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sr-CS" sz="4400" spc="-1" strike="noStrike">
                <a:solidFill>
                  <a:srgbClr val="a886e0"/>
                </a:solidFill>
                <a:latin typeface="Garamond"/>
              </a:rPr>
              <a:t>угао</a:t>
            </a: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, angulus venos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rcRect l="9043" t="0" r="43738" b="37997"/>
          <a:stretch/>
        </p:blipFill>
        <p:spPr>
          <a:xfrm>
            <a:off x="1042920" y="82440"/>
            <a:ext cx="68850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9043" t="0" r="38202" b="39813"/>
          <a:stretch/>
        </p:blipFill>
        <p:spPr>
          <a:xfrm>
            <a:off x="468360" y="271440"/>
            <a:ext cx="769788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3500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A. carotis externa</a:t>
            </a:r>
            <a:br>
              <a:rPr sz="2800"/>
            </a:b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(bočne grane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3840" y="1143000"/>
            <a:ext cx="42865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a. thyroidea sup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za pothioidne mišić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za m. sternocleidomastoid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laryngea sup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crycothiroid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e gr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an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buClr>
                <a:srgbClr val="ffcc66"/>
              </a:buClr>
              <a:buSzPct val="8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a. lingu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r. dorsales linguae (koren jezika, nepčani krajnik, epiglo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e gr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sublingualis (pod usne duplje, gl. sublingualis=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profunda lingu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Content Placeholder 4" descr=""/>
          <p:cNvPicPr/>
          <p:nvPr/>
        </p:nvPicPr>
        <p:blipFill>
          <a:blip r:embed="rId1"/>
          <a:srcRect l="8700" t="6511" r="37833" b="37500"/>
          <a:stretch/>
        </p:blipFill>
        <p:spPr>
          <a:xfrm>
            <a:off x="4429080" y="0"/>
            <a:ext cx="4537080" cy="356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rcRect l="7973" t="7126" r="37500" b="38878"/>
          <a:stretch/>
        </p:blipFill>
        <p:spPr>
          <a:xfrm>
            <a:off x="4516560" y="3421080"/>
            <a:ext cx="4627440" cy="343692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6"/>
          <p:cNvSpPr/>
          <p:nvPr/>
        </p:nvSpPr>
        <p:spPr>
          <a:xfrm>
            <a:off x="7786800" y="3357720"/>
            <a:ext cx="785880" cy="144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traight Connector 9"/>
          <p:cNvSpPr/>
          <p:nvPr/>
        </p:nvSpPr>
        <p:spPr>
          <a:xfrm>
            <a:off x="8143920" y="2071800"/>
            <a:ext cx="785880" cy="144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8001000" y="6072120"/>
            <a:ext cx="785880" cy="180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3857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A. carotis externa</a:t>
            </a:r>
            <a:br>
              <a:rPr sz="2800"/>
            </a:b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(bočne grane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4200" y="1071720"/>
            <a:ext cx="43531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9"/>
              </a:spcBef>
              <a:buClr>
                <a:srgbClr val="ffcc66"/>
              </a:buClr>
              <a:buSzPct val="80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a. faci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palatina ascend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subment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r. glandula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labialis inf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labialis sup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a gran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angular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buClr>
                <a:srgbClr val="ffcc66"/>
              </a:buClr>
              <a:buSzPct val="8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a. pharyngea ascend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r. pharyng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tympanica inf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a gran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meningea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Content Placeholder 4" descr=""/>
          <p:cNvPicPr/>
          <p:nvPr/>
        </p:nvPicPr>
        <p:blipFill>
          <a:blip r:embed="rId1"/>
          <a:srcRect l="7640" t="6658" r="37833" b="37500"/>
          <a:stretch/>
        </p:blipFill>
        <p:spPr>
          <a:xfrm>
            <a:off x="4464000" y="3263760"/>
            <a:ext cx="4680000" cy="359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rcRect l="7973" t="7126" r="37500" b="38878"/>
          <a:stretch/>
        </p:blipFill>
        <p:spPr>
          <a:xfrm>
            <a:off x="4429080" y="0"/>
            <a:ext cx="4627440" cy="343692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5"/>
          <p:cNvSpPr/>
          <p:nvPr/>
        </p:nvSpPr>
        <p:spPr>
          <a:xfrm>
            <a:off x="7858080" y="2428920"/>
            <a:ext cx="785880" cy="144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traight Connector 6"/>
          <p:cNvSpPr/>
          <p:nvPr/>
        </p:nvSpPr>
        <p:spPr>
          <a:xfrm>
            <a:off x="5286240" y="6143760"/>
            <a:ext cx="785880" cy="144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A. carotis externa</a:t>
            </a:r>
            <a:br>
              <a:rPr sz="2800"/>
            </a:b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(bočne grane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3840" y="1143000"/>
            <a:ext cx="42865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a. occipit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i sternocleidomastoid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mastoid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auricular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descend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e gr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i occipit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buClr>
                <a:srgbClr val="ffcc66"/>
              </a:buClr>
              <a:buSzPct val="8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a. auricularis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stylomastoid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tympanica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e gr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auricular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occipit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Content Placeholder 4" descr=""/>
          <p:cNvPicPr/>
          <p:nvPr/>
        </p:nvPicPr>
        <p:blipFill>
          <a:blip r:embed="rId1"/>
          <a:srcRect l="7640" t="0" r="37833" b="37500"/>
          <a:stretch/>
        </p:blipFill>
        <p:spPr>
          <a:xfrm>
            <a:off x="3714840" y="1500120"/>
            <a:ext cx="5105160" cy="438948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4"/>
          <p:cNvSpPr/>
          <p:nvPr/>
        </p:nvSpPr>
        <p:spPr>
          <a:xfrm>
            <a:off x="4000680" y="3786120"/>
            <a:ext cx="785520" cy="180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traight Connector 5"/>
          <p:cNvSpPr/>
          <p:nvPr/>
        </p:nvSpPr>
        <p:spPr>
          <a:xfrm>
            <a:off x="7786800" y="3071880"/>
            <a:ext cx="785880" cy="144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A. carotis externa</a:t>
            </a:r>
            <a:br>
              <a:rPr sz="2800"/>
            </a:b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(završne grane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3840" y="1000080"/>
            <a:ext cx="42865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a. temporalis superfici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transversa faci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i parotid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r. auriculares anteri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zygomaticoorbit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temporalis m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e gr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front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amus pariet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Content Placeholder 4" descr=""/>
          <p:cNvPicPr/>
          <p:nvPr/>
        </p:nvPicPr>
        <p:blipFill>
          <a:blip r:embed="rId1"/>
          <a:srcRect l="7640" t="0" r="37833" b="37500"/>
          <a:stretch/>
        </p:blipFill>
        <p:spPr>
          <a:xfrm>
            <a:off x="3857760" y="1571760"/>
            <a:ext cx="505296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Straight Connector 4"/>
          <p:cNvSpPr/>
          <p:nvPr/>
        </p:nvSpPr>
        <p:spPr>
          <a:xfrm>
            <a:off x="7072200" y="2286000"/>
            <a:ext cx="785880" cy="144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traight Connector 5"/>
          <p:cNvSpPr/>
          <p:nvPr/>
        </p:nvSpPr>
        <p:spPr>
          <a:xfrm>
            <a:off x="7929720" y="2714760"/>
            <a:ext cx="785520" cy="1440"/>
          </a:xfrm>
          <a:prstGeom prst="line">
            <a:avLst/>
          </a:prstGeom>
          <a:ln w="73080">
            <a:solidFill>
              <a:srgbClr val="ffff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40003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A. carotis externa</a:t>
            </a:r>
            <a:br>
              <a:rPr sz="2800"/>
            </a:b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(završne grane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2560" y="857160"/>
            <a:ext cx="435276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2)  a. maxillar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bo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 gran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početni, vilični d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auricularis profu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tympanica an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alveolaris inf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meningea m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srednji, pterigoidni d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masseter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a. temporales profund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rr. pterygoid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bucc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završni, pterigopalatinski d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alveolaris superior pos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infraorbita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canalis pterygoid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palatina descend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vršna gran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a. sphenopalat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aa. nasales post, rr. septales post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7806" t="0" r="37419" b="37500"/>
          <a:stretch/>
        </p:blipFill>
        <p:spPr>
          <a:xfrm>
            <a:off x="4870440" y="0"/>
            <a:ext cx="4273560" cy="3657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rcRect l="7799" t="7569" r="37419" b="37500"/>
          <a:stretch/>
        </p:blipFill>
        <p:spPr>
          <a:xfrm>
            <a:off x="4869000" y="3643200"/>
            <a:ext cx="4275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4:23:19Z</dcterms:created>
  <dc:creator>IvanM</dc:creator>
  <dc:description/>
  <dc:language>en-US</dc:language>
  <cp:lastModifiedBy>Vista</cp:lastModifiedBy>
  <dcterms:modified xsi:type="dcterms:W3CDTF">2014-10-05T19:17:27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